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07D-9705-438A-ABA6-7FFF1F40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D33-7255-4382-85F2-FA8E71E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EC4-D978-4954-83E2-C752CD2F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527-DD31-4B5F-B876-DE62120B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9C0E-A326-4E53-B094-FD17339F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4CBF-6C7F-4215-9BE4-91DEFF0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555F-67F2-4863-833E-FE5C7F4B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1F62-BCF2-4545-820B-285BAE6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3484-85A4-45DE-9DF4-C2E6BD7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8A4-9EBF-4294-8EEB-178AF9C3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DCB5-4FA7-4F12-B119-DBCC32C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817-C92B-4851-896F-605BD1B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FE6-DBE5-4C4A-B894-23B1E8F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264-4B3F-4C65-8F30-25A5511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544-5E87-413F-9975-CD856EA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6A09-F235-426F-9DF1-79FFEA04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F45-9250-4174-A0F1-FF4539F2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CEEC-A3D0-4CF9-B9B1-40FB1B74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B24A-C5E3-4E07-A302-58251722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8751-4E13-4E5F-BED9-06FDAC5F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7653-35CF-4D4F-BB85-B22471F6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D3CC-E82C-467C-90C5-25C79CA9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AB1-819A-4312-B3F0-40C93E4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6227-19AA-483A-99F5-214D217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2983-FCF2-4838-8A1D-1B03ACD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F26B-D6E8-4298-A717-D306B34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92C9-0416-462B-84CD-3BD84E0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A10A-FCCF-4C39-8DF3-D6BFA7A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7AEF-356F-41DF-84BD-4C0AC969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D1A4-D502-4DEE-B01C-C580E5A3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862B-20D4-4065-A67E-00EE2236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47C7-10BA-4DA7-BDCC-79E5B981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8A32-AF9E-42C3-B634-DC349EB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D5C-C3DC-4726-9A45-880D1ADF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126E-8609-4071-8EE0-344413E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BD2F-B9D6-4256-A5FB-392803E8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66C9-0EF6-4061-B43C-42B5D7E2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C39B-345C-42BE-B96B-A0916AE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8E2F-5EF6-4F0B-A296-71F89C6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C5C9-BB77-4E6E-9D9C-6037C7C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BC18-21C9-442E-A29E-5FD8D70E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3F37-8734-4F10-A129-C8630D28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6207-4824-4560-9725-E64AE422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BCD2-13A0-4887-A5CF-2C56862E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699-DDC9-4DB7-86A6-718849B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4CD7-C7D9-4E4F-9CD1-6AB27C4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4C2A-1BB2-45E8-8034-A5AC2EC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E0E2-3A0C-4449-875E-01FC6CB9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9325-BFAD-4DBA-9ACE-8CD080A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C609-67F3-4894-9521-5A43F50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E881-2287-4B72-A490-521C5B5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FC7F-F6A1-4070-893E-DAFF89C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0A09-FDE6-470D-B18A-820459C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A099-E025-4BCD-9F97-97F738EC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DD75-279E-48F1-BAD8-8ED49D0F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B18-931A-4925-A58D-27D276AB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B2F6-0A05-4321-B0D4-CF7B5F5E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0B2A-37DD-4339-A584-921E28F4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3DF5-B974-4954-8512-D2366E1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C39E-C027-42C0-B61B-BFD538A4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D962-59A1-482E-92E3-6E3F494C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0173-8A7B-4FB9-B775-BB222199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4E016-B55F-44E4-8BAF-ABF1C6A9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861A-8515-4214-A69C-81DB251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CD88E-C207-437C-AD48-40EA816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921E-B631-4C9D-B431-0668E6C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277-84E0-4107-9467-E5133C9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44FBB-F1A7-408E-A097-23BB693D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C0BF-73C6-4859-8534-3EAF5F2D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53FAB-6DF4-4224-ABEF-FB2977A4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3CA23-A021-4C58-9004-39A68C85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2EB6-9FCB-45BD-9134-DEA1FB6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D696-9FA7-43B1-BFB6-62ED7774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861A3-6EC5-4E63-B218-AD286AEA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40C1-0D63-48E0-891B-9FD024A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2453-0852-457B-BF8E-077E5E1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E2FA-E72C-4A4F-B81F-CAFDDA9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0D6-4004-4452-A701-FABC352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3B2C-81A6-4620-9DF9-F5A57874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C32E-A5FB-4FD0-A106-0088FAB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DBD0-6405-4CDB-B9DB-EE6F388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1B58-6171-4FEC-8A1E-B194F0AF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AE2B-1AA2-42A3-B62E-689071E1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B485-D321-4202-98A7-7C272CB2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2564A-B587-4F46-B5D2-BA33637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1128-04C5-4298-A2B2-3001BD16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F7A2-C0D6-4632-A077-4ED2BCE2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27DA6-F052-42FC-9994-842DD12B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EA1-55F6-4A81-BADA-84FCDCE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6D850-B764-4DE3-B5CA-E61D903C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E2EC1-8D02-43C1-9E98-4FA0FDBD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5096-19CE-44F1-86B5-D126868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A9CE-A113-4998-B71A-ED91A8AF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0B8C-034C-4065-A524-DD12324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E365-9C2D-4F7E-A581-52D01635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0E31-2498-4C76-991A-C05E48E3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7E1D-E26D-4731-AA53-EF3D68C1C1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D22-8FCD-437D-987C-B5CF586DEA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11" name="Нашивка 15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12" name="Нашивка 15" descr=""/>
            <p:cNvPicPr/>
            <p:nvPr/>
          </p:nvPicPr>
          <p:blipFill>
            <a:blip r:embed="rId6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E34-E970-4842-B62C-5CF7219164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709E-082D-4F5F-A349-AB44AE4714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5AA-EB3B-4290-B465-9E25299018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2B55-6C35-4B71-8C5F-353F83CFE8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0AD-DFAD-4A53-A0EE-610221E213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9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2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4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55" name="Нашивка 19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356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58" name="Нашивка 20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359" name="Нашивка 20" descr=""/>
            <p:cNvPicPr/>
            <p:nvPr/>
          </p:nvPicPr>
          <p:blipFill>
            <a:blip r:embed="rId8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B51-0C1D-409A-A156-23CA961801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590400" y="2193840"/>
            <a:ext cx="8382240" cy="22449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133.jpg"/>
          <p:cNvPicPr/>
          <p:nvPr/>
        </p:nvPicPr>
        <p:blipFill>
          <a:blip r:embed="rId2"/>
          <a:stretch/>
        </p:blipFill>
        <p:spPr>
          <a:xfrm>
            <a:off x="-30240" y="-103320"/>
            <a:ext cx="299268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Что такое «десятичные дроб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складыв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вычит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Важность данной темы  в нашей жизн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Отличать десятичные дроби от обыкновенных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Складыв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Вычит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888.jpg"/>
          <p:cNvPicPr/>
          <p:nvPr/>
        </p:nvPicPr>
        <p:blipFill>
          <a:blip r:embed="rId1"/>
          <a:stretch/>
        </p:blipFill>
        <p:spPr>
          <a:xfrm>
            <a:off x="115920" y="-23760"/>
            <a:ext cx="2975040" cy="3267000"/>
          </a:xfrm>
          <a:prstGeom prst="rect">
            <a:avLst/>
          </a:prstGeom>
          <a:ln w="0">
            <a:noFill/>
          </a:ln>
        </p:spPr>
      </p:pic>
      <p:pic>
        <p:nvPicPr>
          <p:cNvPr id="409" name="Заголовок 2" descr=""/>
          <p:cNvPicPr/>
          <p:nvPr/>
        </p:nvPicPr>
        <p:blipFill>
          <a:blip r:embed="rId2"/>
          <a:stretch/>
        </p:blipFill>
        <p:spPr>
          <a:xfrm>
            <a:off x="2664000" y="493560"/>
            <a:ext cx="6211800" cy="11592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5" descr=""/>
          <p:cNvPicPr/>
          <p:nvPr/>
        </p:nvPicPr>
        <p:blipFill>
          <a:blip r:embed="rId3"/>
          <a:stretch/>
        </p:blipFill>
        <p:spPr>
          <a:xfrm>
            <a:off x="731880" y="3164040"/>
            <a:ext cx="79912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3" descr="2.jpg"/>
          <p:cNvPicPr/>
          <p:nvPr/>
        </p:nvPicPr>
        <p:blipFill>
          <a:blip r:embed="rId1"/>
          <a:stretch/>
        </p:blipFill>
        <p:spPr>
          <a:xfrm>
            <a:off x="-23760" y="-23760"/>
            <a:ext cx="2419200" cy="379080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2" descr=""/>
          <p:cNvPicPr/>
          <p:nvPr/>
        </p:nvPicPr>
        <p:blipFill>
          <a:blip r:embed="rId2"/>
          <a:stretch/>
        </p:blipFill>
        <p:spPr>
          <a:xfrm>
            <a:off x="2919240" y="122400"/>
            <a:ext cx="6035760" cy="134136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787840" y="142884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0,56+0,19=0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2850480" y="1928880"/>
            <a:ext cx="372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,29+2,46=3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12,125+1,3=113,42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23,55+0,001=23,55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5+0,56=5,5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285840" y="4143240"/>
            <a:ext cx="8072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Чтобы сложить десятичные дроби нужно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ятой. Выполнить сложение, не обращая внимания на запятую, поставит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3" descr="OKSVAdrobi2-1.jpg"/>
          <p:cNvPicPr/>
          <p:nvPr/>
        </p:nvPicPr>
        <p:blipFill>
          <a:blip r:embed="rId1"/>
          <a:stretch/>
        </p:blipFill>
        <p:spPr>
          <a:xfrm>
            <a:off x="4827600" y="585720"/>
            <a:ext cx="4365720" cy="2144880"/>
          </a:xfrm>
          <a:prstGeom prst="rect">
            <a:avLst/>
          </a:prstGeom>
          <a:ln w="0">
            <a:noFill/>
          </a:ln>
        </p:spPr>
      </p:pic>
      <p:pic>
        <p:nvPicPr>
          <p:cNvPr id="417" name="Заголовок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4486320" cy="1908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1379880" y="2714760"/>
            <a:ext cx="41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5,2-0,2=4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0,56-0,23=0,3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6,1-0,55=5,5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2,006-23,05=18,95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-322920" y="4714920"/>
            <a:ext cx="973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Чтобы вычесть десятичные дроби нужно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ятой. Выполнить вычитание, не обращая внимания на запятую, постави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7:25:31Z</dcterms:created>
  <dc:creator>Ольга</dc:creator>
  <dc:description/>
  <dc:language>en-US</dc:language>
  <cp:lastModifiedBy>26054</cp:lastModifiedBy>
  <dcterms:modified xsi:type="dcterms:W3CDTF">2010-05-31T11:10:02Z</dcterms:modified>
  <cp:revision>7</cp:revision>
  <dc:subject/>
  <dc:title>Сложение и вычитание  десятичных дробей</dc:title>
</cp:coreProperties>
</file>